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CACC-B5A7-483E-92A6-39DACE5AC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8E6E-B1D9-4841-812C-5E06DC7A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851C-5D48-401F-A3DC-E7E50BEF9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DD5B-9714-4B74-85CC-5AE0AAFF3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3480-CCE7-45C6-AE43-C961C08D3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B833-BE9E-493B-9FA1-0B111DB0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0AA91-9CC2-4C7B-A121-84B5C046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B41D-D562-43A6-A2CF-D2F20B1C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07D7-6710-4E74-8DE6-D73B5755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8F138-4F63-4F54-AD1A-1DE36325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347A-1D39-4CBC-B548-D295CBAA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7E1A-A1F3-42D9-9A60-933119F7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485D-FDFF-466F-85C7-3AFEFAED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A3DF-3349-43DA-967D-A7D7E5E2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C837-31FD-47E8-8340-E3CC499B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D850-C29E-4619-925D-B25227E40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DBA9-DE44-493C-BDD8-00276978B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6064-3E5B-4321-84FC-21599A40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58BD-6E08-48DD-8FFA-EB2ED0E6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278A-475A-439F-9CA9-092AC473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B51B-F9D3-49FC-AD7E-C73CBF0F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00C8-192F-4AF4-B2DD-0846257F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D370-A57D-459B-8266-AD5F0576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DBDC-45AE-4B24-B4BD-7A0C908C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5387-525E-4845-ABAE-9BDB1C0EA33C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AC14-6BAA-43FD-822B-CAB554C9F9F4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http://baike.baidu.com/view/35011.htm" TargetMode="External"/><Relationship Id="rId4" Type="http://schemas.openxmlformats.org/officeDocument/2006/relationships/hyperlink" Target="http://baike.baidu.com/view/193749.htm" TargetMode="External"/><Relationship Id="rId5" Type="http://schemas.openxmlformats.org/officeDocument/2006/relationships/hyperlink" Target="http://baike.baidu.com/view/853154.htm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hyperlink" Target="http://baike.baidu.com/view/100592.htm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hyperlink" Target="http://baike.baidu.com/view/777862.htm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c5900"/>
                </a:solidFill>
                <a:latin typeface="Arial"/>
              </a:rPr>
              <a:t>作者简介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0977"/>
                </a:solidFill>
                <a:latin typeface="Arial"/>
              </a:rPr>
              <a:t>王绩</a:t>
            </a:r>
            <a:r>
              <a:rPr b="0" lang="zh-CN" sz="2800" spc="-1" strike="noStrike">
                <a:solidFill>
                  <a:srgbClr val="030977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30977"/>
                </a:solidFill>
                <a:latin typeface="Arial"/>
              </a:rPr>
              <a:t>约</a:t>
            </a:r>
            <a:r>
              <a:rPr b="0" lang="zh-CN" sz="2800" spc="-1" strike="noStrike">
                <a:solidFill>
                  <a:srgbClr val="030977"/>
                </a:solidFill>
                <a:latin typeface="Arial"/>
              </a:rPr>
              <a:t>589</a:t>
            </a:r>
            <a:r>
              <a:rPr b="0" lang="zh-CN" sz="2800" spc="-1" strike="noStrike">
                <a:solidFill>
                  <a:srgbClr val="030977"/>
                </a:solidFill>
                <a:latin typeface="Arial"/>
              </a:rPr>
              <a:t>～</a:t>
            </a:r>
            <a:r>
              <a:rPr b="0" lang="zh-CN" sz="2800" spc="-1" strike="noStrike">
                <a:solidFill>
                  <a:srgbClr val="030977"/>
                </a:solidFill>
                <a:latin typeface="Arial"/>
              </a:rPr>
              <a:t>644)</a:t>
            </a:r>
            <a:r>
              <a:rPr b="0" lang="zh-CN" sz="2800" spc="-1" strike="noStrike">
                <a:solidFill>
                  <a:srgbClr val="030977"/>
                </a:solidFill>
                <a:latin typeface="Arial"/>
              </a:rPr>
              <a:t>，字无功，号东皋子，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绛州</a:t>
            </a:r>
            <a:r>
              <a:rPr b="0" lang="zh-CN" sz="2800" spc="-1" strike="noStrike">
                <a:solidFill>
                  <a:srgbClr val="030977"/>
                </a:solidFill>
                <a:latin typeface="Arial"/>
              </a:rPr>
              <a:t>龙门</a:t>
            </a:r>
            <a:r>
              <a:rPr b="0" lang="zh-CN" sz="2800" spc="-1" strike="noStrike">
                <a:solidFill>
                  <a:srgbClr val="030977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30977"/>
                </a:solidFill>
                <a:latin typeface="Arial"/>
              </a:rPr>
              <a:t>今山西河津</a:t>
            </a:r>
            <a:r>
              <a:rPr b="0" lang="zh-CN" sz="2800" spc="-1" strike="noStrike">
                <a:solidFill>
                  <a:srgbClr val="030977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30977"/>
                </a:solidFill>
                <a:latin typeface="Arial"/>
              </a:rPr>
              <a:t>人。隋末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4"/>
              </a:rPr>
              <a:t>举孝廉</a:t>
            </a:r>
            <a:r>
              <a:rPr b="0" lang="zh-CN" sz="2800" spc="-1" strike="noStrike">
                <a:solidFill>
                  <a:srgbClr val="030977"/>
                </a:solidFill>
                <a:latin typeface="Arial"/>
              </a:rPr>
              <a:t>，除秘书正字。不乐在朝，辞疾，复授扬州六合丞。时天下大乱，弃官还故乡。唐武德中，诏以前朝官待诏门下省。贞观初，以疾罢归河渚间，躬耕东皋，自号“东皋子”。嗜酒，能饮五斗，自作《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5"/>
              </a:rPr>
              <a:t>五斗先生传</a:t>
            </a:r>
            <a:r>
              <a:rPr b="0" lang="zh-CN" sz="2800" spc="-1" strike="noStrike">
                <a:solidFill>
                  <a:srgbClr val="030977"/>
                </a:solidFill>
                <a:latin typeface="Arial"/>
              </a:rPr>
              <a:t>》 ，撰 《酒经》 、《酒谱》 。其诗近而不浅，质而不俗，真率疏放，有旷怀高致，直追魏晋高风。律体滥觞于六朝，而成型于隋唐之际，无功实为先声。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1332000" y="0"/>
            <a:ext cx="10872720" cy="6872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字词了解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2541600" cy="39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东皋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徙倚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犊 ：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0" y="1773360"/>
            <a:ext cx="33336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薄暮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落晖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采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薇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5877000"/>
            <a:ext cx="24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2492280"/>
            <a:ext cx="46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gāo 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诗人隐居的地方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364500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(xǐyǐ)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徘徊，来回的走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479736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dú)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小牛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这里指牛群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56360" y="2276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傍晚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227640" y="2924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落日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46920" y="357336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30977"/>
                </a:solidFill>
                <a:latin typeface="Arial"/>
              </a:rPr>
              <a:t>薇，是一种植物</a:t>
            </a:r>
            <a:r>
              <a:rPr b="0" lang="zh-CN" sz="1800" spc="-1" strike="noStrike">
                <a:solidFill>
                  <a:srgbClr val="030977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       </a:t>
            </a:r>
            <a:r>
              <a:rPr b="0" lang="zh-CN" sz="4400" spc="-1" strike="noStrike">
                <a:solidFill>
                  <a:srgbClr val="cc00cc"/>
                </a:solidFill>
                <a:latin typeface="Arial"/>
              </a:rPr>
              <a:t>春望 </a:t>
            </a:r>
            <a:r>
              <a:rPr b="0" lang="zh-CN" sz="1800" spc="-1" strike="noStrike">
                <a:solidFill>
                  <a:srgbClr val="cc00cc"/>
                </a:solidFill>
                <a:latin typeface="Arial"/>
              </a:rPr>
              <a:t>            王绩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3640" y="214488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东皋薄暮望，徙倚欲何依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树树皆秋色，山山唯落晖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牧人驱犊返，猎马带禽归。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相顾无相识，长歌怀采薇。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80520" y="2205000"/>
            <a:ext cx="115524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首  颔   颈  尾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翻译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cc00cc"/>
                </a:solidFill>
                <a:latin typeface="Arial"/>
              </a:rPr>
              <a:t>傍晚时分站在诗人隐居的地方纵目远眺，徘徊不定不知归依何方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Arial"/>
              </a:rPr>
              <a:t>　　层层树林都染上秋天的色彩，重重山岭披覆着落日的余光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Arial"/>
              </a:rPr>
              <a:t>　　牧人驱赶着牛群返回，猎人骑着马带着猎物回去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Arial"/>
              </a:rPr>
              <a:t>　　我看到这些人又并不认识，咏一曲长歌来怀念古代采薇而食的隐士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-396720" y="-157320"/>
            <a:ext cx="9540720" cy="73314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65188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文中的思想感情是怎样的一种基调？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59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新宋体"/>
                <a:ea typeface="新宋体"/>
              </a:rPr>
              <a:t>    </a:t>
            </a:r>
            <a:r>
              <a:rPr b="1" lang="zh-CN" sz="2800" spc="-1" strike="noStrike">
                <a:solidFill>
                  <a:srgbClr val="007a77"/>
                </a:solidFill>
                <a:latin typeface="新宋体"/>
                <a:ea typeface="新宋体"/>
              </a:rPr>
              <a:t>本诗描绘了萧瑟恬静的秋天黄昏景色，表现了诗人当时孤独、抑郁的心情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新宋体"/>
                <a:ea typeface="新宋体"/>
              </a:rPr>
              <a:t>   “</a:t>
            </a:r>
            <a:r>
              <a:rPr b="1" lang="zh-CN" sz="2800" spc="-1" strike="noStrike">
                <a:solidFill>
                  <a:srgbClr val="007a77"/>
                </a:solidFill>
                <a:latin typeface="新宋体"/>
                <a:ea typeface="新宋体"/>
              </a:rPr>
              <a:t>徙倚”是徘徊的意思。“欲何依”，化用曹操《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新宋体"/>
                <a:ea typeface="新宋体"/>
                <a:hlinkClick r:id="rId3"/>
              </a:rPr>
              <a:t>短歌行</a:t>
            </a:r>
            <a:r>
              <a:rPr b="1" lang="zh-CN" sz="2800" spc="-1" strike="noStrike">
                <a:solidFill>
                  <a:srgbClr val="007a77"/>
                </a:solidFill>
                <a:latin typeface="新宋体"/>
                <a:ea typeface="新宋体"/>
              </a:rPr>
              <a:t>》中“月明星稀，乌鹊南飞，绕树三匝，何枝可依”的意思，表现了百无聊赖的彷徨心情。下面四句写薄暮中所见景物：“树树皆秋色，山山唯落晖。牧人驱犊返，猎马带禽归。”举目四望，到处是一片秋色，在夕阳的余晖中越发显得萧瑟。在这静谧的背景之上，牧人与猎马的特写，带着牧歌式的田园气氛，使整个画面活动了起来。这四句诗宛如一幅山家秋晚图，光与色，远景与近景，静态与动态，搭配得恰到好处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新宋体"/>
                <a:ea typeface="新宋体"/>
              </a:rPr>
              <a:t>　　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课外知识拓展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483920"/>
            <a:ext cx="85183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典故 的含义  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51875"/>
                </a:solidFill>
                <a:latin typeface="Arial"/>
              </a:rPr>
              <a:t>原指旧制、旧例，也是汉代掌管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礼乐制度</a:t>
            </a:r>
            <a:r>
              <a:rPr b="1" lang="zh-CN" sz="3200" spc="-1" strike="noStrike">
                <a:solidFill>
                  <a:srgbClr val="051875"/>
                </a:solidFill>
                <a:latin typeface="Arial"/>
              </a:rPr>
              <a:t>等史实者的</a:t>
            </a:r>
            <a:r>
              <a:rPr b="1" lang="zh-CN" sz="3200" spc="-1" strike="noStrike" u="sng">
                <a:solidFill>
                  <a:srgbClr val="051875"/>
                </a:solidFill>
                <a:uFillTx/>
                <a:latin typeface="Arial"/>
              </a:rPr>
              <a:t>官名</a:t>
            </a:r>
            <a:r>
              <a:rPr b="1" lang="zh-CN" sz="3200" spc="-1" strike="noStrike">
                <a:solidFill>
                  <a:srgbClr val="051875"/>
                </a:solidFill>
                <a:latin typeface="Arial"/>
              </a:rPr>
              <a:t>。典故这个名称，由来已久。最早可追溯到汉朝，《后汉书．东平宪王苍传》：“亲屈至尊，降礼下臣，每赐宴见，辄兴席改容，中宫亲拜，事过典故。”典故是诗文中经常引用的、有来历出处又为人们所公认的故事或词语。它的历史可以追溯到文字产生前，它源于社会生活实践，早于文字就在民间口头流传了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3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052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8920" y="4797000"/>
            <a:ext cx="8541000" cy="11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星垂平野阔，月涌大江流。</a:t>
            </a:r>
            <a:br>
              <a:rPr sz="40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西山白雪三城戍，南浦清江万里桥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。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8920" y="476280"/>
            <a:ext cx="85410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对仗的意思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诗词中要求严格的对偶，称为对仗。对仗主要包括词语的互为对仗和句式的互为对仗两个方面。 词语对仗的要求是：词义必须同属一类，如以山川对山川，以草木对草木等；词性必须基本相同，如名词对名词，动词对动词等；平仄必须相对，即以平对仄或以仄对平；结构必须对称，即以单纯词对单纯词，以合成词对合成词；另外，要避免同字相对。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-396720" y="0"/>
            <a:ext cx="105138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课后延伸 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940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一 、将此诗改为下面所展示的词，是好还是不好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东皋望，徙倚欲何依。树皆秋色，山唯落晖。牧人返，猎马归。相顾无识，长怀采薇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50000" y="1844640"/>
            <a:ext cx="41940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二、与杜甫的《春望》相比有什么异同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92720" y="2781360"/>
            <a:ext cx="4465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Arial"/>
                <a:ea typeface="宋体-PUA"/>
              </a:rPr>
              <a:t>国破山河在，城春草木深。</a:t>
            </a:r>
            <a:br>
              <a:rPr sz="2800"/>
            </a:br>
            <a:r>
              <a:rPr b="1" lang="zh-CN" sz="2800" spc="-1" strike="noStrike">
                <a:solidFill>
                  <a:srgbClr val="dc5900"/>
                </a:solidFill>
                <a:latin typeface="Arial"/>
                <a:ea typeface="宋体-PUA"/>
              </a:rPr>
              <a:t>感时花溅泪，恨别鸟惊心。</a:t>
            </a:r>
            <a:br>
              <a:rPr sz="2800"/>
            </a:br>
            <a:r>
              <a:rPr b="1" lang="zh-CN" sz="2800" spc="-1" strike="noStrike">
                <a:solidFill>
                  <a:srgbClr val="dc5900"/>
                </a:solidFill>
                <a:latin typeface="Arial"/>
                <a:ea typeface="宋体-PUA"/>
              </a:rPr>
              <a:t>烽火连三月，家书抵万金。</a:t>
            </a:r>
            <a:br>
              <a:rPr sz="2800"/>
            </a:br>
            <a:r>
              <a:rPr b="1" lang="zh-CN" sz="2800" spc="-1" strike="noStrike">
                <a:solidFill>
                  <a:srgbClr val="dc5900"/>
                </a:solidFill>
                <a:latin typeface="Arial"/>
                <a:ea typeface="宋体-PUA"/>
              </a:rPr>
              <a:t>白头搔更短，浑欲不胜簪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  <a:ea typeface="宋体-PUA"/>
              </a:rPr>
              <a:t>。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　　　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0:24:28Z</dcterms:created>
  <dc:creator>USER</dc:creator>
  <dc:description/>
  <dc:language>en-US</dc:language>
  <cp:lastModifiedBy>USER</cp:lastModifiedBy>
  <dcterms:modified xsi:type="dcterms:W3CDTF">2011-09-25T05:27:32Z</dcterms:modified>
  <cp:revision>8</cp:revision>
  <dc:subject/>
  <dc:title>I   </dc:title>
</cp:coreProperties>
</file>